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AMBOR.WAV" ContentType="audio/x-wav"/>
  <Override PartName="/ppt/media/DIGITA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447920" y="1143000"/>
            <a:ext cx="6476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ZapfEllipt BT"/>
              </a:rPr>
              <a:t>feem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ZapfEllipt BT"/>
              <a:ea typeface="ZapfEllipt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MBOR.WAV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2111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as e tendência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 o Licenciamento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41720"/>
            <a:ext cx="91440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ccccff"/>
                </a:solidFill>
                <a:latin typeface="Arial"/>
              </a:rPr>
              <a:t>Instrumento democrático, pois possibilita a manifestação e participação popular na tomada de decisão de um projeto através das Audiências Públicas e publicidade das licen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cccff"/>
                </a:solidFill>
                <a:latin typeface="Arial"/>
              </a:rPr>
              <a:t>Afinal, Meio Ambiente, é uma questão de cidad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antagem do Licenciamento Ambiental incluindo EIA e R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743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Abertura e dragagem de canais de navegação, drenagem ou irrigação,                                                  retificação de cursos d'água, abertura de barras e embocaduras, transposição de bacias, construção de diq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Projetos de desenvolvimento urbanos e exploração econômica de madeira ou lenha em áreas acima de 50 ha, ou menores, quando confrontantes com unidades de conservação da natureza ou em áreas de interesse especial ou ambie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Projeto agropecuário em áreas superiores a 200 ha, ou menores, quando situados total ou parcialmente em áreas de interesse especial ou ambie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i 1.356/88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AMA 01/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brigatoriedade de EIA e RIMA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brigatoriedade de EIA e RIMA -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i 1.356/88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AMA 01/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Estradas de rodagem com duas ou mais pistas de rol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Ferrov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Portos e terminais de minérios, petróleo e produtos quí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Aeropo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Oleodutos, gasodutos, mineradouras e emissários submar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Linhas de transmissão de energia elétrica (acima de 230 Kv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Barragens e usinas de geração de energia elétrica (acima de 10 Mw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- Extração mi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040" y="40320"/>
            <a:ext cx="1654560" cy="4291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quer  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6680" y="981360"/>
            <a:ext cx="267840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Constitu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Grupo de Trabal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5400" y="2192760"/>
            <a:ext cx="255672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Elab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Instrução Téc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0560" y="2037240"/>
            <a:ext cx="286704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Intima a  apresentar EIA conform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0520" y="5011920"/>
            <a:ext cx="378756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30 dias para consu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pública a partir do ac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2057400"/>
            <a:ext cx="192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blica que recebeu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06120" y="2975040"/>
            <a:ext cx="2448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63b"/>
                </a:solidFill>
                <a:latin typeface="Arial"/>
              </a:rPr>
              <a:t>prazo de 5 d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63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763b"/>
                </a:solidFill>
                <a:latin typeface="Arial"/>
              </a:rPr>
              <a:t>úteis para ac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240" y="4786200"/>
            <a:ext cx="45118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63b"/>
                </a:solidFill>
                <a:latin typeface="Arial"/>
              </a:rPr>
              <a:t>Prazo para análi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63b"/>
                </a:solidFill>
                <a:latin typeface="Arial"/>
              </a:rPr>
              <a:t>Mínimo: 45 dias úteis da entre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63b"/>
                </a:solidFill>
                <a:latin typeface="Arial"/>
              </a:rPr>
              <a:t>Máximo: 2/3 do prazo de entre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86520"/>
            <a:ext cx="29908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CECA delib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Audiência Públ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812680"/>
            <a:ext cx="353880" cy="490320"/>
          </a:xfrm>
          <a:prstGeom prst="downArrow">
            <a:avLst>
              <a:gd name="adj1" fmla="val 50000"/>
              <a:gd name="adj2" fmla="val 3463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0560" y="4303080"/>
            <a:ext cx="617760" cy="49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07240" y="480600"/>
            <a:ext cx="761760" cy="49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4960" y="60480"/>
            <a:ext cx="838080" cy="549000"/>
          </a:xfrm>
          <a:prstGeom prst="rightArrow">
            <a:avLst>
              <a:gd name="adj1" fmla="val 50000"/>
              <a:gd name="adj2" fmla="val 381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8040" y="60480"/>
            <a:ext cx="52084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Caso de apresentação de EIA-1356/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3280" y="2465280"/>
            <a:ext cx="40824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4960" y="2465280"/>
            <a:ext cx="1155600" cy="354240"/>
          </a:xfrm>
          <a:prstGeom prst="rightArrow">
            <a:avLst>
              <a:gd name="adj1" fmla="val 50000"/>
              <a:gd name="adj2" fmla="val 815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691640"/>
            <a:ext cx="761760" cy="49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84720" y="3295800"/>
            <a:ext cx="22348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trega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A / 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8280" y="5883120"/>
            <a:ext cx="439560" cy="568440"/>
          </a:xfrm>
          <a:prstGeom prst="downArrow">
            <a:avLst>
              <a:gd name="adj1" fmla="val 50000"/>
              <a:gd name="adj2" fmla="val 323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73960" y="1114560"/>
            <a:ext cx="208872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Grupo v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8560" y="6134040"/>
            <a:ext cx="21222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10 dias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manifestaçõ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8040" y="963720"/>
            <a:ext cx="1047960" cy="577800"/>
          </a:xfrm>
          <a:prstGeom prst="leftArrow">
            <a:avLst>
              <a:gd name="adj1" fmla="val 50000"/>
              <a:gd name="adj2" fmla="val 453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19600" y="3241800"/>
            <a:ext cx="682920" cy="495000"/>
          </a:xfrm>
          <a:prstGeom prst="rightArrow">
            <a:avLst>
              <a:gd name="adj1" fmla="val 50000"/>
              <a:gd name="adj2" fmla="val 3449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88280" y="3814920"/>
            <a:ext cx="238752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blica o ac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2520" y="4359240"/>
            <a:ext cx="23508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Distribui o R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9600" y="4000680"/>
            <a:ext cx="408240" cy="549000"/>
          </a:xfrm>
          <a:prstGeom prst="rightArrow">
            <a:avLst>
              <a:gd name="adj1" fmla="val 49713"/>
              <a:gd name="adj2" fmla="val 2490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295800"/>
            <a:ext cx="136440" cy="9504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70520" y="4303080"/>
            <a:ext cx="617400" cy="49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1080" y="6086520"/>
            <a:ext cx="2418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Requerer  AP.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dias após ac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27840" y="6451560"/>
            <a:ext cx="772920" cy="406440"/>
          </a:xfrm>
          <a:prstGeom prst="leftArrow">
            <a:avLst>
              <a:gd name="adj1" fmla="val 50000"/>
              <a:gd name="adj2" fmla="val 475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5120" y="6451560"/>
            <a:ext cx="517320" cy="444600"/>
          </a:xfrm>
          <a:prstGeom prst="leftArrow">
            <a:avLst>
              <a:gd name="adj1" fmla="val 50000"/>
              <a:gd name="adj2" fmla="val 290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3007800"/>
            <a:ext cx="762120" cy="49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440" y="3387600"/>
            <a:ext cx="24318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udiência Prév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T / E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olução CONAMA 009/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1600"/>
            <a:ext cx="914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Regulamenta a questão das Audiências Públicas - Artigo 2º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“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empre que julgar necessário, ou quando for solicitado por entidade civil, pelo Ministério Público, ou por  50 ou mais cidadãos, o órgão de meio ambiente promoverá a realização da Audiência Pública 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1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liberação CECA 2.555/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86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menta a realização de Audiência Pública como parte do processo de licenciamento de atividades poluidoras sujeitas à apresentação de Estudo de Impacto Ambiental - EIA e também o Relatório de Impacto Ambiental - 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SPENSÃO OU CANCELAMENTO DA LICENÇ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órgão, mediante decisão motivada, poderá modificar as condicionantes e as medidas de controle e adequação, suspender ou cancelar 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cença, quando ocor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olação ou inadequação de quaisquer condicionantes ou normas leg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issão ou falsa descrição de informações relevantes que subsidiaram a expedição da lice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eniência de graves riscos ambientais e de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4560" y="114120"/>
            <a:ext cx="9372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L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ncipais problemas identific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0020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1. Cenári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5756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copo de a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gração com outras esferas e instituiçõ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ceitas geradas não são utilizadas no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ompanhamento pós-licença d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dastro técnico de consultores sem 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canismos de participação da sociedade defic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sestruturação do setor público em 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blemas de ordem político-gerencial e equipe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spreparo para adaptar-se às exigências da sociedade: eficiência do Estado + participação pública na gestão ambiental + transparência das deci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istemas de controle não informat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LAP : Principais Deficiê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616040"/>
            <a:ext cx="9144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Objetivo 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Melhorar a eficiência do sistema de licenciamento ambiental, por intermédio do fortalecimento técnico e oper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Revisão conce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Revisão e normatização &lt;=&gt; harmonização de procedime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Aprimoramento técnico de mecanismos de análise e de acompanhamento nos projetos licenciados pela FE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Estudos para a sustentabilidade  do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jeto de Fortalecimento do Licenci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OBJE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Eficiência e eficácia do processo de licenciamento nos  órgãos estaduais de me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LINHAS BÁSICA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regulamentação de procedimentos técnicos e administrativ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apoio à  descentralização do licenciamento de atividades de alcance muni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práticas inovadoras de licenciamento + integração com outros instrumentos de gestão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ccff"/>
                </a:solidFill>
                <a:latin typeface="Arial"/>
              </a:rPr>
              <a:t>sistemas de acompanhamento e avaliação do licenciamen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Licenciamento Ambi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228600"/>
            <a:ext cx="9144360" cy="23626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2408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ROCESSO FALIMEN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TIVIDADE DESATIV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PREENSÃO PELO PODER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QUESTÕES JUDICI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AMB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Times New Roman"/>
              </a:rPr>
              <a:t>AI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Requisito a mais para controle de atividades de grande potencial poluidor (20 anos de prática a nível mund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uxílio na tomada de decisão, políticas, programas, planos e empreend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moção do Desenvolvimento Sustent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companhamento e Gest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ediação de conflitos de inte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ÍCIO DO LICENCIAMENTO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 Sistema de Licenciamento de Atividades Poluidoras  foi instituído pelo Decreto nº 1.633/77 , que  regulamenta o Decreto-lei nº 134/75, que dispõe sobre a  prevenção e o controle da Poluição do Meio Ambiente  no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o Rio de Janeiro, dentre outras providê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lei Federal 6.938/81 inseriu o licenciamento dentre os instrumentos da Política Nacional do Meio Ambiente, determinando a sua obrigatoriedade em todo territóri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LICENCIAMENTO AMBIENTAL DAS ATIVIDADES POLUIDORAS - SLAP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09320" y="182880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cc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40880" y="6227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317600"/>
            <a:ext cx="883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Como modernizar o licenciamento ambienta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o possibilitar a integração com outros instrumentos de gestão ambienta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exemplo: monitor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Regulamentação estadual - em conjunto com municíp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áticas inovadoras de licenciamento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o adotá-la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Como minimizar diferenças entre os sistemas estaduai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einamento/Capacitação : como garantir resultad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Licenciamento Ambi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IVIDADES SUJEITAS AO LICENCIAMEN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odos os empreendimentos capazes, sob qualquer forma, de causar degradaçã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Resolução CONAMA nº 237/97 é o mais recente ato que trata do licenciamento ambiental, apresentando, sob forma de anexo, um rol de atividades e/ou empreendimentos que devem solicitar a licença ambiental  para sua instalação e funcion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LICENCIAMENTO AMBIENTAL DAS ATIVIDADES POLUIDORAS - SLAP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143000"/>
            <a:ext cx="6476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ZapfEllipt BT"/>
              </a:rPr>
              <a:t>feem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ZapfEllipt BT"/>
              <a:ea typeface="ZapfEllipt BT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Dispensa de Licenciamen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DELIBERAÇÃO CECA Nº 3.588, de 23.12.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94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sider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N-050.R-1 - Classificação de atividades polui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NT 202.R-10 - Critérios e padrões para lançamento de efluentes 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NBR-7229/93 - Projeto, Construção e Operação de Sistemas de Tanques Sép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ifesto de Adequ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81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Apresen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ontra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CPF ou C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Documento de Ide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Licenciamento - SL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8588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cença Prévia (LP)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- na fase preliminar do planejamento, contendo requisitos básicos a serem atendidos nas fases de localização, instalação e operação, observados os planos municipais, estaduais ou federais de uso do s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cença de  Instalação (LI)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- autoriza o início da implantação, de acordo com as especificações constantes no projeto executivo aprov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cença de Operação (LO)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- autoriza, após as verificações necessárias, o início da atividade licenciada e o funcionamento de seus equipamentos de controle de poluição, de acordo com o previsto nas Licenças Prévia e de Instalação (LP e L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76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Dever constitucional / CF 88 - art. 225, § 1o., IV </a:t>
            </a:r>
            <a:br>
              <a:rPr sz="2700"/>
            </a:b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Lei 6.938 / 81 - Política Nacional do Meio Ambi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CE / RJ  - art. 258,  §  1</a:t>
            </a:r>
            <a:r>
              <a:rPr b="1" i="1" lang="en-US" sz="27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, X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Resolução CONAMA 001 / 86 - diretrizes para AIA</a:t>
            </a:r>
            <a:br>
              <a:rPr sz="2700"/>
            </a:b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Lei 1356/88 - RJ - procedimentos para EIA/RIMA</a:t>
            </a:r>
            <a:br>
              <a:rPr sz="2700"/>
            </a:b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Resolução CONAMA (licenciamento) - 237 / 97</a:t>
            </a:r>
            <a:br>
              <a:rPr sz="2700"/>
            </a:br>
            <a:r>
              <a:rPr b="1" i="1" lang="en-US" sz="2700" spc="-1" strike="noStrike">
                <a:solidFill>
                  <a:srgbClr val="71bb96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71bb96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700" spc="-1" strike="noStrike" u="sng">
                <a:solidFill>
                  <a:srgbClr val="cc3300"/>
                </a:solidFill>
                <a:uFillTx/>
                <a:latin typeface="Arial"/>
              </a:rPr>
              <a:t>EIA</a:t>
            </a: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: pesquisa da literatura legal e técnica, trabalhos de campo, análises. Indica vantagens e conseqüências ambientais do projeto.</a:t>
            </a:r>
            <a:br>
              <a:rPr sz="2700"/>
            </a:b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i="1" lang="en-US" sz="2700" spc="-1" strike="noStrike" u="sng">
                <a:solidFill>
                  <a:srgbClr val="cc3300"/>
                </a:solidFill>
                <a:uFillTx/>
                <a:latin typeface="Arial"/>
              </a:rPr>
              <a:t>RIMA</a:t>
            </a: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: um documento que resume as </a:t>
            </a:r>
            <a:br>
              <a:rPr sz="2700"/>
            </a:br>
            <a:r>
              <a:rPr b="1" i="1" lang="en-US" sz="2700" spc="-1" strike="noStrike">
                <a:solidFill>
                  <a:srgbClr val="ffffcc"/>
                </a:solidFill>
                <a:latin typeface="Arial"/>
              </a:rPr>
              <a:t>conclusões do E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8120" y="304920"/>
            <a:ext cx="327636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IA - RIM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6T17:31:32Z</dcterms:created>
  <dc:creator>DECON</dc:creator>
  <dc:description/>
  <dc:language>en-US</dc:language>
  <cp:lastModifiedBy>Cajinho</cp:lastModifiedBy>
  <dcterms:modified xsi:type="dcterms:W3CDTF">2004-01-26T13:03:18Z</dcterms:modified>
  <cp:revision>360</cp:revision>
  <dc:subject/>
  <dc:title>SISTEMA DE LICENCIAMENTO AMBIENTAL</dc:title>
</cp:coreProperties>
</file>